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777-1C72-4ADB-AE74-F48E3354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387-B469-4FE7-9767-0E163F5E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0B0-367D-46E9-9E89-D5D5F61B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C26-0E24-45A5-9885-231DFD75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289-59EB-4CE8-A460-474E989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FA8-C72A-4204-B782-07E67A0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A5B-38D6-408A-BCE2-434A537E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CE0-C112-44C8-8DF3-32468319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E7C-7CB4-4CE2-88CA-667FF8EF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80E-7BE0-4B38-A291-6F2BB50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7C2-BB5F-46DA-840F-459B287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6E3-5EDD-4DD8-BA7F-0F0CC92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14C9-1EA1-4755-A6CE-1F8988C26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mpire.k12.ca.us/capistrano/Mike/capmusic/baroque/bach/bach.h1.jpg" TargetMode="External"/><Relationship Id="rId2" Type="http://schemas.openxmlformats.org/officeDocument/2006/relationships/hyperlink" Target="http://files.list.co.uk/images/2008/11/27/richter-mustang-staffel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Customs and Tra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Ha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mpire.k12.ca.us/capistrano/Mike/capmusic/baroque/bach/bach.h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iles.list.co.uk/images/2008/11/27/richter-mustang-staffel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paightwoodgalleries.com/Media/Pechstein_Kopf_F149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rthistoryunstuffed.com/german-expressionis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ermanculture.com.ua/library/weekly/gerhard_richt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aroquemusic.org/bqxjsba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Expressio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 expressionism was more connected to relationships between art and society, politics and popular 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ant-Garde artists tried to free themselves from state restri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reamed of utopian dreams involving individual creativity, but want to still reach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rman expressionists were concerned about keeping their individuality while still attending to the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 “Expressionism” in Germany meant “Modern art”. There was a rejection of  traditional Western conventions dating back to the Renaissa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971800" y="0"/>
            <a:ext cx="3286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echstein Kop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born in Dresden in 19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ork is full of art depicting reality and the actuality of pain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to work with artists such as Sigmar Polke, Konrad  Fischer-Lu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they created a group called the capitalist real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s Realists were satirical, deriving ideas from print med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0400" y="152280"/>
            <a:ext cx="327672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erhard Ric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19520" y="457200"/>
            <a:ext cx="3419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ustang Staffe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8640" y="1852560"/>
            <a:ext cx="5886720" cy="31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895480" y="5334120"/>
            <a:ext cx="3276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e of Gerhards paint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 March 25 1685 in the town of Eisen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post of violinist in the small chamber orchestra of Duke Johann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organizing all of the facilities of Mühl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d at the small court of Anhalt- Cöthen  and received rank of Kapellmei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high ideals for the church music of German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228600"/>
            <a:ext cx="4333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ohann Sebastian Ba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95480" y="228600"/>
            <a:ext cx="31626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ortrait of Ba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238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did the Avant-Garde artists try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When was Gerhard bor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Free themselves from state restri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32:57Z</dcterms:created>
  <dc:creator>SCSadmin</dc:creator>
  <dc:description/>
  <dc:language>en-US</dc:language>
  <cp:lastModifiedBy>SCSadmin</cp:lastModifiedBy>
  <dcterms:modified xsi:type="dcterms:W3CDTF">2011-11-10T14:28:04Z</dcterms:modified>
  <cp:revision>9</cp:revision>
  <dc:subject/>
  <dc:title>Slide 1</dc:title>
</cp:coreProperties>
</file>